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3EA7-292E-4253-9ABB-82B261FD8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E2A8-7E61-4A1A-8F2F-B5A49770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42CE-A1CA-478F-BDD9-E2074975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3577-8C48-4D65-B888-FBDB62502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EB34-2F4B-4B0E-B884-BC12C0FB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1D00-00AE-4066-A466-56718EE4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EAF3-185F-4376-B502-490C2A3F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0F5D-1085-47FE-8AEA-CF5C25A0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DDC8-DD47-4DCD-AF25-09F9D8CD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6C8B-D51C-4B7C-9AD8-FF2131BA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9B09-C51B-4A63-AA98-F446571D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BBDA-84C0-42DD-AFD4-85F80010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1B68-8767-425F-BB2E-5411D92AD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00cc00"/>
                </a:solidFill>
                <a:latin typeface="Arial"/>
              </a:rPr>
              <a:t>Profession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292720" y="836640"/>
            <a:ext cx="3152880" cy="5172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22400" y="825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3800" y="8366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66"/>
                </a:solidFill>
                <a:latin typeface="Arial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1200" y="3141720"/>
            <a:ext cx="4214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66"/>
                </a:solidFill>
                <a:latin typeface="Arial Black"/>
              </a:rPr>
              <a:t>POLIC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66"/>
                </a:solidFill>
                <a:latin typeface="Arial Black"/>
              </a:rPr>
              <a:t>OFFIC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43120" y="2266920"/>
            <a:ext cx="156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60093"/>
                </a:solidFill>
                <a:latin typeface="Arial"/>
              </a:rPr>
              <a:t>1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84640" y="4824360"/>
            <a:ext cx="424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d60093"/>
                </a:solidFill>
                <a:latin typeface="Arial"/>
              </a:rPr>
              <a:t>magicia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284720" y="476280"/>
            <a:ext cx="38764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1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29120" cy="51721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651640" y="2133720"/>
            <a:ext cx="171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0000"/>
                </a:solidFill>
                <a:latin typeface="Arial"/>
              </a:rPr>
              <a:t>1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50920" y="5229360"/>
            <a:ext cx="4984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0000"/>
                </a:solidFill>
                <a:latin typeface="Arial"/>
              </a:rPr>
              <a:t>JUGGL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724360" y="2852640"/>
            <a:ext cx="3152880" cy="3791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49080" y="357336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9900"/>
                </a:solidFill>
                <a:latin typeface="Arial"/>
              </a:rPr>
              <a:t>1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80360" y="692280"/>
            <a:ext cx="373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9900"/>
                </a:solidFill>
                <a:latin typeface="Arial"/>
              </a:rPr>
              <a:t>ACTO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50"/>
                            </p:stCondLst>
                            <p:childTnLst>
                              <p:par>
                                <p:cTn id="2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2857680" cy="4476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859280" y="981000"/>
            <a:ext cx="163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77777"/>
                </a:solidFill>
                <a:latin typeface="Arial"/>
              </a:rPr>
              <a:t>1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50920" y="3933720"/>
            <a:ext cx="419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777777"/>
                </a:solidFill>
                <a:latin typeface="Arial"/>
              </a:rPr>
              <a:t>musicia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68920" y="928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95480" y="5969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26000" y="712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14000" y="5087880"/>
            <a:ext cx="2977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ffffff"/>
                </a:solidFill>
                <a:latin typeface="Arial"/>
              </a:rPr>
              <a:t>acrob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7120" y="947880"/>
            <a:ext cx="131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486320" cy="5505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705280" y="88272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3300"/>
                </a:solidFill>
                <a:latin typeface="Arial"/>
              </a:rPr>
              <a:t>1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04720" y="2637000"/>
            <a:ext cx="395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663300"/>
                </a:solidFill>
                <a:latin typeface="Arial"/>
              </a:rPr>
              <a:t>Mime-arti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8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716360" y="549360"/>
            <a:ext cx="4133880" cy="5505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477800" y="249228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66"/>
                </a:solidFill>
                <a:latin typeface="Arial"/>
              </a:rPr>
              <a:t>1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560" y="4508640"/>
            <a:ext cx="414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ff0066"/>
                </a:solidFill>
                <a:latin typeface="Arial"/>
              </a:rPr>
              <a:t>comedia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333440" y="1257480"/>
            <a:ext cx="6477120" cy="4343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997080" y="260280"/>
            <a:ext cx="94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50880" y="5516640"/>
            <a:ext cx="6005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99cc00"/>
                </a:solidFill>
                <a:latin typeface="Arial"/>
              </a:rPr>
              <a:t>Pavement artis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r>
              <a:rPr b="0" lang="es-ES" sz="8000" spc="-1" strike="noStrike">
                <a:solidFill>
                  <a:srgbClr val="ff0000"/>
                </a:solidFill>
                <a:latin typeface="Arial Black"/>
              </a:rPr>
              <a:t>Where</a:t>
            </a:r>
            <a:br>
              <a:rPr sz="8000"/>
            </a:br>
            <a:r>
              <a:rPr b="0" lang="es-ES" sz="8000" spc="-1" strike="noStrike">
                <a:solidFill>
                  <a:srgbClr val="ff0000"/>
                </a:solidFill>
                <a:latin typeface="Arial Black"/>
              </a:rPr>
              <a:t>can we find some of these artists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87640" y="765000"/>
            <a:ext cx="3571920" cy="3571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28360" y="6206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78960" y="4869000"/>
            <a:ext cx="4294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9900"/>
                </a:solidFill>
                <a:latin typeface="Comic Sans MS"/>
              </a:rPr>
              <a:t>DENTIS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40000" y="260280"/>
            <a:ext cx="4762440" cy="4638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5800" y="76500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12000" y="5013360"/>
            <a:ext cx="413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Arial"/>
              </a:rPr>
              <a:t>WAIT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16360" y="0"/>
            <a:ext cx="3466800" cy="5172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28360" y="10526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ffcc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5229360"/>
            <a:ext cx="295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ffcc"/>
                </a:solidFill>
                <a:latin typeface="Arial"/>
              </a:rPr>
              <a:t>sing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68360" y="177840"/>
            <a:ext cx="4680000" cy="4680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13080" y="4284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99ff"/>
                </a:solidFill>
                <a:latin typeface="Comic Sans MS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0560" y="5013360"/>
            <a:ext cx="4263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3399ff"/>
                </a:solidFill>
                <a:latin typeface="Comic Sans MS"/>
              </a:rPr>
              <a:t>plumb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132000" y="333360"/>
            <a:ext cx="4403880" cy="4140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5800" y="141300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00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5084640"/>
            <a:ext cx="436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996600"/>
                </a:solidFill>
                <a:latin typeface="Arial"/>
              </a:rPr>
              <a:t>secretar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076720" y="836640"/>
            <a:ext cx="3048120" cy="5172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20880" y="278136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000"/>
                </a:solidFill>
                <a:latin typeface="Comic Sans MS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620640"/>
            <a:ext cx="11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65040" y="692280"/>
            <a:ext cx="6181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4762440" cy="2857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116600" y="18900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0099"/>
                </a:solidFill>
                <a:latin typeface="Arial Black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79640" y="522936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0099"/>
                </a:solidFill>
                <a:latin typeface="Arial Black"/>
              </a:rPr>
              <a:t>DANCER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4703760" cy="6193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05440" y="4316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3300"/>
                </a:solidFill>
                <a:latin typeface="Arial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88600" y="3573360"/>
            <a:ext cx="4831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Comic Sans MS"/>
              </a:rPr>
              <a:t>CARPENT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1:05:20Z</dcterms:created>
  <dc:creator>AJR</dc:creator>
  <dc:description/>
  <dc:language>en-US</dc:language>
  <cp:lastModifiedBy>profesor</cp:lastModifiedBy>
  <dcterms:modified xsi:type="dcterms:W3CDTF">2009-09-30T11:33:07Z</dcterms:modified>
  <cp:revision>5</cp:revision>
  <dc:subject/>
  <dc:title>Professions</dc:title>
</cp:coreProperties>
</file>